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2A2E-8293-427E-818E-6F7C74F13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603A-22D5-4411-9EAE-32EEE283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E260-8B2A-423F-A90A-FAA4AF7E4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F2B4-CFBE-4500-823C-575F997BF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010E-0F53-493B-8389-0D61D0D60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8E6C-DB1C-48B6-B32B-551D683DB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93BA-751E-4B5A-B237-CFFA91D9B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CB1E-2CAC-4D1A-8BF5-0E16E2931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8B12-34F1-43CE-A19F-145BEB738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028D-A879-46A4-8C61-757E0A87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1F0E-1B8C-43A4-9461-F6829A68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F765-4B7E-47A7-914B-0116E38F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5D0D5-02B2-46FB-A14E-38A7791E4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4248000" cy="4581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5720" y="1484280"/>
            <a:ext cx="400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cc3300"/>
                </a:solidFill>
                <a:latin typeface="Tahoma"/>
              </a:rPr>
              <a:t>Das Update geht nur mit Win 2000 oder XP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9600" y="1557360"/>
            <a:ext cx="48960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Prozedur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- Exe-Datei in ein neues Verzeichnis kopie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Das Gerät anmachen, indem man den Joystick 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der mittleren Position reindrückt und gleichzeiti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auf die rote Taste drückt -&gt; Gerät geht in Boot-Mod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- Verbinden des Gerätes mit dem PC über das USB-K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Windows findet neue Hardwa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USB-Treiber installie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Updatesoftware starten und entsprechend 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Grafik konfigurie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- Start Button in Software drüc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Einstellungen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USB-Kabel Nutzung, nur unter Win2000 / XP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Rest siehe Bi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419640" y="189000"/>
            <a:ext cx="27050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Update SX1</a:t>
            </a:r>
            <a:endParaRPr b="0" lang="en-US" sz="4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7T21:11:45Z</dcterms:created>
  <dc:creator>Multi</dc:creator>
  <dc:description/>
  <dc:language>en-US</dc:language>
  <cp:lastModifiedBy>Multi</cp:lastModifiedBy>
  <dcterms:modified xsi:type="dcterms:W3CDTF">2004-01-17T21:11:58Z</dcterms:modified>
  <cp:revision>1</cp:revision>
  <dc:subject/>
  <dc:title>Folie 1</dc:title>
</cp:coreProperties>
</file>